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BEC-45F3-482E-9D7F-31BA798F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E278-4364-413B-8FD0-52A05B22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1F9-491A-4545-8BB7-9F07275E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903-767F-4929-835B-51AE190A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60FB-4AB4-433D-B1EE-079E9C9E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43B-B1D1-4389-A03E-6511E1D1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C16-7BC2-4E64-BBA1-46221CBC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1EB-7B72-4061-9BE8-A2021846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A1C-4A2C-44F5-85CC-DC66129C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00DC-23DD-4D91-9834-00E1B5F1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607-CFAB-47E2-A892-F020C39B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4FC-CF58-4E2D-8A2B-0B3C2820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9F01-4094-405C-88D8-EEBF1BE89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ematical Models:  Construct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838080" y="228600"/>
            <a:ext cx="7925040" cy="1905120"/>
            <a:chOff x="838080" y="228600"/>
            <a:chExt cx="7925040" cy="1905120"/>
          </a:xfrm>
        </p:grpSpPr>
        <p:sp>
          <p:nvSpPr>
            <p:cNvPr id="43" name=""/>
            <p:cNvSpPr/>
            <p:nvPr/>
          </p:nvSpPr>
          <p:spPr>
            <a:xfrm>
              <a:off x="838080" y="228600"/>
              <a:ext cx="7925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e perimeter of a rectangle is 300 feet.  Express its area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s a function of the length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 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a sid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447920" y="533520"/>
              <a:ext cx="1295280" cy="16002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5" name=""/>
          <p:cNvGraphicFramePr/>
          <p:nvPr/>
        </p:nvGraphicFramePr>
        <p:xfrm>
          <a:off x="4267080" y="2362320"/>
          <a:ext cx="3175200" cy="13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362320"/>
                    <a:ext cx="317520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80880" y="152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23920" y="914400"/>
            <a:ext cx="6253200" cy="2378160"/>
            <a:chOff x="223920" y="914400"/>
            <a:chExt cx="6253200" cy="237816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223920" y="914400"/>
              <a:ext cx="625320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429000" y="1523880"/>
              <a:ext cx="106668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228600" y="1870200"/>
              <a:ext cx="6172200" cy="7207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2" name=""/>
            <p:cNvGraphicFramePr/>
            <p:nvPr/>
          </p:nvGraphicFramePr>
          <p:xfrm>
            <a:off x="2286000" y="2421000"/>
            <a:ext cx="2743200" cy="627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86000" y="2421000"/>
                      <a:ext cx="2743200" cy="62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304920" y="2998800"/>
              <a:ext cx="5790960" cy="2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380880" y="152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040" y="666720"/>
            <a:ext cx="8967960" cy="337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152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24280" y="3124080"/>
            <a:ext cx="3657600" cy="3422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914400"/>
            <a:ext cx="85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tangle has one corner on the graph of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5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other at the origin, a third on the positi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, and a fourth on the positi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  Express the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rectangle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  What is the domai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2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8-01-19T12:29:19Z</dcterms:modified>
  <cp:revision>9</cp:revision>
  <dc:subject/>
  <dc:title>Slide 1</dc:title>
</cp:coreProperties>
</file>